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846-EED7-47B1-B76E-6D184610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901-48EC-46E3-8DC5-FD5FEE17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13E-A535-4E14-80BB-CF0EA096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9AF-9281-446E-ACBC-C46151FD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DF9-EFFC-4E3A-B438-D06B1854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69E-FA16-4472-B89B-1AD1AC79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A2D-CA60-4A6F-B0E0-E2F8161A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CFB-9901-42DE-9061-540B092B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2023-B4D4-4831-A50C-E199C388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F60-FADC-4470-AF64-661DB925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A4F-9E18-4319-8E1C-CFF13CD0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1E9-923C-44FD-9939-0441F085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1BAB-023D-431F-9E8F-FEE791240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1844640"/>
            <a:ext cx="9036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PROPUESTA DE PROGRAMA CONJUNTO AMAC-DGP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PARA 2016</a:t>
            </a:r>
            <a:br>
              <a:rPr sz="2800"/>
            </a:br>
            <a:br>
              <a:rPr sz="2800"/>
            </a:br>
            <a:r>
              <a:rPr b="0" i="1" lang="en-US" sz="2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PROGRAMA PARA LA MEJORA DE LA OPERATIVIDAD DE LOS PLANES MUNICIPALES DE EMERGENCIA NUCL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5 CuadroTexto"/>
          <p:cNvSpPr/>
          <p:nvPr/>
        </p:nvSpPr>
        <p:spPr>
          <a:xfrm>
            <a:off x="34560" y="5084640"/>
            <a:ext cx="915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Jornada Técnica  sobre Planes Municipales de Emergencia Nuclear para Autoridades Municip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Escuela Nacional de Protección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19 de octubre de 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6" descr="Imagen anagrama map"/>
          <p:cNvPicPr/>
          <p:nvPr/>
        </p:nvPicPr>
        <p:blipFill>
          <a:blip r:embed="rId1"/>
          <a:stretch/>
        </p:blipFill>
        <p:spPr>
          <a:xfrm>
            <a:off x="179280" y="260280"/>
            <a:ext cx="2667240" cy="460440"/>
          </a:xfrm>
          <a:prstGeom prst="rect">
            <a:avLst/>
          </a:prstGeom>
          <a:ln w="0">
            <a:noFill/>
          </a:ln>
        </p:spPr>
      </p:pic>
      <p:sp>
        <p:nvSpPr>
          <p:cNvPr id="44" name="Line 3"/>
          <p:cNvSpPr/>
          <p:nvPr/>
        </p:nvSpPr>
        <p:spPr>
          <a:xfrm>
            <a:off x="3276720" y="3429000"/>
            <a:ext cx="2519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oner en práctica actividades conjuntas, durante el año 2016, que permitan mejorar el grado de preparación, a nivel municipal,  para hacer frente a las emergencias que puedan derivarse de accidentes ocurridos en las centrales nuclea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omo continuidad al trabajo desarrollado ya durante 2014-20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ctividades a desarrol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rmación a personal de las organizaciones de los PA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formación preventiva a la pobl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ealización de simulacros a nivel municip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riterios organiza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483920"/>
            <a:ext cx="9036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Todas las actividades se programarán de forma que queden coordinadas entre si, en cuanto a procesos secuenciales y tiempos. Así la realización de un simulacro deberá ir precedida por actividades de formación del personal adscrito al PAMEN e información a la población, correspondien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Se realizará conjuntamente entre AMAC y la DGPCE, la selección del personal participante en las actividades formativas, la de los municipios en los que van a realizarse programas de información a la población y la de los municipios en los que hacer los simulacr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La formación teórico-práctica se programará de acuerdo con las autoridades municipales que puedan verse afecta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Las actividades de información a la población a nivel municipal, serán asimismo acordadas con las autoridades municipales que correspond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Los objetivos específicos de cada simulacro, la modalidad de éste, los medios y el personal a movilizar y demás circunstancias relativas al mismo, serán planificadas de acuerdo con las autoridades municipales correspondientes, al igual que la valoración de resultados y las recomendaciones de mejo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riterios organiza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764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Los gastos corrientes de las actividades formativas  y las de información a la población, incluyendo folletos y demás material divulgativo, correrá a cargo de la DGPCE, de acuerdo con sus disponibilidades presupuestar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La DGPCE correrá igualmente con los gastos corrientes derivados de la realización de los simulacros que se realicen en aplicación del programa y con arreglo al mism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Cada entidad participante en el desarrollo de las actividades programadas habrá de correr con las retribuciones del personal a su cargo que tome parte en las mis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En ningún caso podrán atribuirse al programa gastos de inversión o subvenci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riterios organiza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En todo caso, las actividades que hayan de formar parte del Programa, en tanto deban ser desarrolladas a nivel territorial, serán sometidas previamente por la DGPCE a la consideración de los directores de los PEN que en cada caso correspondan, al objeto de que se efectúen de forma coordinada y con la participación de las Unidades de Protección Civil respectiv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riterios organiza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Se sugiere la posibilidad de elaborar el programa en dos fas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alibri"/>
              </a:rPr>
              <a:t>Fase Piloto </a:t>
            </a: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(de 29 de octubre de 2015 a 29 de febrero de 2016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Se seleccionarán dos municipios en los que “a priori” se den las condiciones adecuadas para iniciar la programación y realización de actividades de información a la población y,  seguidamente a éstas, la realización de un simulacr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Se irá desarrollando el curso general “on line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Se irá preparando el Programa para 201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alibri"/>
              </a:rPr>
              <a:t>Fase aprobación y puesta en práctica del Programa</a:t>
            </a: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. (de 1 de marzo de 2016 a 30 de noviembre de 2016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El programa quedará aprobado por ambas partes durante el mes de marzo de 2016 y comenzarán no mas tarde del primero de abr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Se ofrece la posibilidad de valorar los resultados del Programa mediante la celebración de una Jornada Técnica final en la Escuela Nacional de Protección Civ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escudo"/>
          <p:cNvPicPr/>
          <p:nvPr/>
        </p:nvPicPr>
        <p:blipFill>
          <a:blip r:embed="rId1"/>
          <a:stretch/>
        </p:blipFill>
        <p:spPr>
          <a:xfrm>
            <a:off x="3635280" y="2060640"/>
            <a:ext cx="11448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4T11:01:57Z</dcterms:created>
  <dc:creator>cduenas</dc:creator>
  <dc:description/>
  <dc:language>en-US</dc:language>
  <cp:lastModifiedBy>DGPCyE</cp:lastModifiedBy>
  <dcterms:modified xsi:type="dcterms:W3CDTF">2015-10-18T16:53:33Z</dcterms:modified>
  <cp:revision>7</cp:revision>
  <dc:subject/>
  <dc:title>PROPUESTA DE PROGRAMA CONJUNTO AMAC-DGPCE PARA 2016   PROGRAMA PARA LA MEJORA DE LA OPERATIVIDAD DE LOS PLANES MUNICIPALES DE EMERGENCIA NUCLEAR</dc:title>
</cp:coreProperties>
</file>